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A57-6653-49FE-BE88-9373B6445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20C9-2D9F-4051-828B-F085FAD7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D052-BC27-41AF-A858-8D2D978D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40E2-4ED6-4CB1-8124-AC949508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B83-5805-4DC8-A03C-225960D7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377-78BE-4EF0-8BFA-BD656203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D91-6577-4A49-B802-30B8A296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C54F-67E2-4B7F-891E-FC8186DC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110-AF35-4951-A837-6FF034A6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AFE-C640-4A9F-9A2D-29C33A9B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7FD-A7DD-46C4-949E-7553FFE0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DD2A-7814-4DE2-B317-9C1C4D90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B1E2-590C-4D62-A2CE-896C53881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peedofcreativity.org/2007/05/13/teaching-in-may-the-best-of-days-the-worst-of-days/" TargetMode="External"/><Relationship Id="rId3" Type="http://schemas.openxmlformats.org/officeDocument/2006/relationships/hyperlink" Target="http://bobsprankle.com/bitbybit_wordpress/" TargetMode="External"/><Relationship Id="rId4" Type="http://schemas.openxmlformats.org/officeDocument/2006/relationships/hyperlink" Target="http://free-esl.com/forum/viewtopic.php?f=5&amp;t=20" TargetMode="External"/><Relationship Id="rId5" Type="http://schemas.openxmlformats.org/officeDocument/2006/relationships/hyperlink" Target="http://teacherweb.com/tx/cypressfalls/stringer/photo5.stm" TargetMode="External"/><Relationship Id="rId6" Type="http://schemas.openxmlformats.org/officeDocument/2006/relationships/hyperlink" Target="http://teacherweb.com/tx/cypressfalls/stringer/photo5.stm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28600" y="380880"/>
            <a:ext cx="3581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o Wiki or Not to Wik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asons to Blog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 learning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s and engages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er inte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 with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lit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590920" y="1066680"/>
            <a:ext cx="60195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uture ain’t what it used to b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gi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important thing is not to stop questioning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bert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7848720" y="57150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20460" y="10800"/>
                </a:moveTo>
                <a:lnTo>
                  <a:pt x="9955" y="17806"/>
                </a:lnTo>
                <a:lnTo>
                  <a:pt x="9955" y="3794"/>
                </a:lnTo>
                <a:close/>
              </a:path>
              <a:path fill="darken" w="33922" h="21600">
                <a:moveTo>
                  <a:pt x="22305" y="3794"/>
                </a:moveTo>
                <a:lnTo>
                  <a:pt x="22305" y="17806"/>
                </a:lnTo>
                <a:lnTo>
                  <a:pt x="23968" y="17806"/>
                </a:lnTo>
                <a:lnTo>
                  <a:pt x="23968" y="37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772400" y="54864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105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238880" y="54100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201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001000" y="5715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log is a w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 lo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 It can take the form of an online journal or diary, or it can   be discussion-oriented and interactive.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8380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at is a wiki / blo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ikis and Blogs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administered by a single aut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hort entries or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link to doc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opportunities for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public, but can be set to be accessed with pass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till not convinced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sons we give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on’t have time…I’m already overloaded with wor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just a passing fad.  Why should I start using blogs and wikis when they will be obsolete in just a few ye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’m afraid of the security issues.  I want to keep my students saf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don’t have the technology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ills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Computers don’t like me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608480" y="609480"/>
            <a:ext cx="60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ore excus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032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y use wikis/blogs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pecial software or skill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ilable anywhere, any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s parents and students with teacher and cont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have ownership and access beyond the school se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:  Teachers can add password and membership restri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s learning beyond the school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echnology is FU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94360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9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ON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ch support is need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s teaching sty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94360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eacher blog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-related blog as a professional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ing and knowledge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al tips for stud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Example sit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announcements and rea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ed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6248520"/>
            <a:ext cx="502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http://awd.cl.uh.edu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tudent blog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ve or writing journ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submission and 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ogue for group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-portfol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8672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http://awd.cl.uh.edu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8:05:59Z</dcterms:created>
  <dc:creator>cyfair</dc:creator>
  <dc:description/>
  <dc:language>en-US</dc:language>
  <cp:lastModifiedBy>cyfair</cp:lastModifiedBy>
  <dcterms:modified xsi:type="dcterms:W3CDTF">2008-02-20T18:46:12Z</dcterms:modified>
  <cp:revision>12</cp:revision>
  <dc:subject/>
  <dc:title>A blog is a web log.  It can take the form of an online journal or diary, or it can be discussion-oriented and interactive.   </dc:title>
</cp:coreProperties>
</file>